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E66-5636-4DF1-9585-4906B077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F67-B1B6-4D12-A471-6D5A63D7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ECA-789B-488E-B208-246B87AD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0B0-198B-433C-913D-6953D28C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C74A-F29E-49FC-8A88-8F7934C5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EDFC-12D2-4BC5-BB56-03E7279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BF4E-2CE7-4818-971B-266D2E67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A396-51CA-4E1B-B4DF-E7F0DA7C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D78F-D359-4C59-91D0-F009F690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0AE-0FE6-4E19-9474-3FA0E989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320D-14D7-48CC-896B-2262A9B4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04D-B13D-4259-BDF5-FF45A26C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F9F5-0934-4E16-8FF8-D933FBAA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2759-337C-4499-A0B1-05F84D5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7939-E371-48B4-92FE-F45CDC36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92E8-9551-4BAA-B04A-62FB443E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4754-F160-4073-AADB-39BF8076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7253-F3EA-47C2-8605-424B4096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A232-ECA8-4845-88D6-4E05A3F2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711D-3133-45A7-B5A9-8805A27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5A7C-FBA5-4834-8587-AD331F74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45F9-F089-4D9C-AC64-866B2FF4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E9E-8CAC-4124-9DB5-8F550FCE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63E1-0123-4A25-9FFA-8C22C0BA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CD78-8104-4B44-8D12-93C4354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AE08-401D-49F0-A36C-92DFD623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211F-60F4-42A5-BA16-43AEA17B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ACD6-E1F7-4814-82EA-A5B8F039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8FE4-0D4A-44B6-B887-517D97F3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4EFA7-470C-4FD2-A13B-7AF4EE48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6FEF-2A6E-4864-A728-408C8EC7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4CE3-3FB9-45DF-892D-C4DBB778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3028-353C-41B6-A2F9-6F4C944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6C9-03EF-4EFA-BA84-3DD1D5C0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DF8C-2611-4341-AAA7-4D1D72B0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17D3-7425-4053-9543-6D7C349E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D67B-0E88-413B-8180-7F4E7CB1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1BC5-E2E3-4A56-B963-40B224F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C4D90-9885-46DF-AB18-9BD11F2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A373-78A2-4685-9234-45392BFE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525E-1E66-47C8-8225-5AC526A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4A35-19E7-4329-BA2A-61B097E7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3A72-15F6-47DB-AC88-50656408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197A-7A9C-4734-9FE7-62B9AA53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386-3AF8-4AAC-964D-4AC76F96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6A59-33A9-49D9-A128-F605A24E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E3631-7C57-4374-A517-4633D19D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C446D-45A6-466D-AD23-1B66B594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595A-0AA1-44EB-9107-99B6DF00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36D9-D43B-4157-994B-FA20A98D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69DC7-0CBC-471B-A481-87BDDD2B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0A57-C94D-4D07-945F-F1D62570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A8014-04F2-4121-9526-453C9E65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8A1C-9182-4D3A-BFC4-F83F9658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280BA-34D3-483B-9FA6-D30EBF27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3AC-B7E2-4D32-9E64-6649029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87F8-328D-4F33-9976-053063B2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E51B8-0607-43FF-B5A5-41A9B2F7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BF7C8-4928-44C9-AD1E-0484F01C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D95DB-8C43-4F23-94FE-2C20715D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BFB5-C080-4AC4-9795-AB102455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D4A39-AD4E-4885-A7DA-0A396C58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CD101-FC39-495D-B6F9-354D64B5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54E33-E1DE-46E7-9340-40AD749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9BAB-4529-4E97-8031-C01AD253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ABE3-0602-4072-B051-57B187A9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B11-7426-4FAB-B86C-FAEC5E35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7498F-DFB7-4E22-B4B3-0442C941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C724C-D47A-4C2B-B2EC-0225190A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8F76-07BC-4099-A2C0-54414B17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1E8F6-2907-4FF2-A6A9-E295CB4A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CFCCC-0DD0-4BF0-958E-BC9D284B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8B2FA-D424-4E9B-B943-6E9EA4B7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7746F-FD1F-4A6D-9985-F89597EB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9E78C-A1A4-453F-9B11-5C31879A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BC310-2CE0-4BE1-A8CC-2AC28AE4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72C19-129C-45CF-BCE2-6E943EC5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FF4-2E8C-4359-A456-C1D2885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77142-3162-4AB3-8379-AFBCCF31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4BDC-5470-4772-8B34-4F01C8E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514B-923C-4A61-B11D-8E27E01B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4963C-2C4F-4A3A-A11B-E3F3519E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13D75-07B5-4A47-9248-24794A92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E8A-C314-4FB5-8087-B64D5FDF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8BA4-E7F7-45E0-808A-AEB1FD80F04B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AAF2-0E69-4F4B-B8EA-678E5D1C45E9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7D56-2093-4A4F-9FF9-86E48A3133A8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0DB3-0090-486E-A2DF-141A10DE00F7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27FB-C179-41CF-A039-F247FD1DFED8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24BF-13FF-4AE5-B3AA-738E0DC31328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77C8-CE70-40AC-8EBF-42857B0B2F79}" type="slidenum">
              <a:rPr b="0" lang="ru-RU" sz="12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Consolas"/>
              </a:rPr>
              <a:t>Почему логарифмы нужны современному человеку?</a:t>
            </a:r>
            <a:br>
              <a:rPr sz="3600"/>
            </a:br>
            <a:endParaRPr b="0" lang="en-US" sz="36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69" name="Picture 4" descr="image009"/>
          <p:cNvPicPr/>
          <p:nvPr/>
        </p:nvPicPr>
        <p:blipFill>
          <a:blip r:embed="rId1"/>
          <a:stretch/>
        </p:blipFill>
        <p:spPr>
          <a:xfrm>
            <a:off x="5072040" y="3214800"/>
            <a:ext cx="18129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nsolas"/>
              </a:rPr>
              <a:t>Вывод:</a:t>
            </a:r>
            <a:endParaRPr b="0" lang="en-US" sz="6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зучение логарифмов – полезное и нужное дело. В школе они упрощают нам решение многих трудных задач. А какие замечательные  вещи можно углядеть в природе, в живописи (и не только) с помощью логарифмов!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 считаю, что значение логарифмов в современном мире не уменьшилось, а приобрело еще большую важнос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onsolas"/>
              </a:rPr>
              <a:t>Что такое логарифм?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 algn="just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ЛОГАРИФМ, число, применение которого позволяет упростить многие сложные операции арифметики. Использование в вычислениях вместо чисел их логарифмов позволяет заменить умножение более простой операцией сложения, деление – вычитанием, возведение в степень – умножением и извлечение корне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onsolas"/>
              </a:rPr>
              <a:t>История логарифма</a:t>
            </a:r>
            <a:endParaRPr b="0" lang="en-US" sz="44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«Логарифм» возник из сочетания греческих слов logos -отношение, соотношение и arithmos - число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ткрытие Логарифм было связано в первую очередь с быстрым развитием астрономии в 16 в., уточнением астрономических наблюдений и усложнением астрономических выкладо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пер- шотландец. В 16 лет отправился на континент, где в течение 5 лет учился в различных университетах  Европы, изучал математику. Затем серьезно занимался астрономией и математикой. К идее логарифмических вычислений Непер пришел ещё в 80-х годах 16 века, однако опубликовал свои таблицы только в 1614г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перу принадлежит и сам термин “логарифм”, который он переводит как “искусственное число”. Таблицы и идеи Непера быстро нашли распространени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olas"/>
              </a:rPr>
              <a:t>Немного об изобретателе логарифмов и создателе логарифмических таблиц </a:t>
            </a:r>
            <a:endParaRPr b="0" lang="en-US" sz="32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429000" y="143496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Уравнение логарифмической спирали в полярной системе координат имеет вид   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  </a:t>
            </a: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ф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           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  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p = a</a:t>
            </a: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 , где 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a 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Переписав уравнение в виде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                </a:t>
            </a: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Ф=</a:t>
            </a:r>
            <a:r>
              <a:rPr b="1" i="1" lang="en-US" sz="3000" spc="-1" strike="noStrike">
                <a:solidFill>
                  <a:srgbClr val="fcbb8b"/>
                </a:solidFill>
                <a:latin typeface="Corbel"/>
              </a:rPr>
              <a:t>logap</a:t>
            </a: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 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6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cbb8b"/>
                </a:solidFill>
                <a:latin typeface="Corbel"/>
              </a:rPr>
              <a:t>мы увидим, что величина полярного угла пропорциональна логарифму радиус-вектора. Отсюда и происходит название логарифмическая спирал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onsolas"/>
              </a:rPr>
              <a:t>Логарифмы в природе</a:t>
            </a:r>
            <a:endParaRPr b="0" lang="en-US" sz="54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78" name="Picture 11" descr="лог спираль"/>
          <p:cNvPicPr/>
          <p:nvPr/>
        </p:nvPicPr>
        <p:blipFill>
          <a:blip r:embed="rId1"/>
          <a:stretch/>
        </p:blipFill>
        <p:spPr>
          <a:xfrm>
            <a:off x="428760" y="1357200"/>
            <a:ext cx="3297240" cy="2703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лог спираль"/>
          <p:cNvPicPr/>
          <p:nvPr/>
        </p:nvPicPr>
        <p:blipFill>
          <a:blip r:embed="rId2"/>
          <a:stretch/>
        </p:blipFill>
        <p:spPr>
          <a:xfrm>
            <a:off x="500040" y="1857240"/>
            <a:ext cx="3297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9297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ae0ec"/>
                </a:solidFill>
                <a:latin typeface="Consolas"/>
              </a:rPr>
              <a:t>Так почему мы в качестве примера логарифмической зависимости в природе выбрали именно логарифмическую спираль?</a:t>
            </a:r>
            <a:endParaRPr b="0" lang="en-US" sz="48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583080" cy="27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2"/>
          <a:stretch/>
        </p:blipFill>
        <p:spPr>
          <a:xfrm>
            <a:off x="5000760" y="571680"/>
            <a:ext cx="3168360" cy="278604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3"/>
          <p:cNvSpPr/>
          <p:nvPr/>
        </p:nvSpPr>
        <p:spPr>
          <a:xfrm>
            <a:off x="571680" y="4000680"/>
            <a:ext cx="63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bb8b"/>
                </a:solidFill>
                <a:latin typeface="Corbel"/>
              </a:rPr>
              <a:t>Иоганн-Вольфганг Гёте считал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571680" y="4714920"/>
            <a:ext cx="714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ff"/>
                </a:solidFill>
                <a:latin typeface="Corbel"/>
              </a:rPr>
              <a:t>Логарифмическая спираль  есть математический символ  жизни и духовного развития.</a:t>
            </a:r>
            <a:r>
              <a:rPr b="0" lang="ru-RU" sz="3600" spc="-1" strike="noStrike">
                <a:solidFill>
                  <a:srgbClr val="66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500040" y="21420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По логарифмическим спиралям закручены и многие галактики, в частности Галактика, которой принадлежит солнечная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11" descr="whirlpoolgalaxy_1024"/>
          <p:cNvPicPr/>
          <p:nvPr/>
        </p:nvPicPr>
        <p:blipFill>
          <a:blip r:embed="rId1"/>
          <a:stretch/>
        </p:blipFill>
        <p:spPr>
          <a:xfrm>
            <a:off x="285840" y="2286000"/>
            <a:ext cx="4017960" cy="301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space018"/>
          <p:cNvPicPr/>
          <p:nvPr/>
        </p:nvPicPr>
        <p:blipFill>
          <a:blip r:embed="rId2"/>
          <a:stretch/>
        </p:blipFill>
        <p:spPr>
          <a:xfrm>
            <a:off x="4643280" y="2286000"/>
            <a:ext cx="40672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onsolas"/>
              </a:rPr>
              <a:t>Логарифмы и живопись</a:t>
            </a:r>
            <a:endParaRPr b="0" lang="en-US" sz="48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4371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Логарифмические линии в природе замечают не только математики, но и художники, например, этот вопрос чрезвычайно волновал Сальвадора Дал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Picture 2" descr="083365f15a1fc6db489d799ca129bc4e[1]"/>
          <p:cNvPicPr/>
          <p:nvPr/>
        </p:nvPicPr>
        <p:blipFill>
          <a:blip r:embed="rId1"/>
          <a:stretch/>
        </p:blipFill>
        <p:spPr>
          <a:xfrm>
            <a:off x="5429160" y="1857240"/>
            <a:ext cx="3538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2:47:36Z</dcterms:created>
  <dc:creator>Маша</dc:creator>
  <dc:description/>
  <dc:language>en-US</dc:language>
  <cp:lastModifiedBy>Маша</cp:lastModifiedBy>
  <dcterms:modified xsi:type="dcterms:W3CDTF">2010-06-08T13:53:03Z</dcterms:modified>
  <cp:revision>13</cp:revision>
  <dc:subject/>
  <dc:title>Слайд 1</dc:title>
</cp:coreProperties>
</file>